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36C3-DEE9-4D88-A2AB-F07527886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D4D3-A81A-4D4D-AFF3-33EC0EC1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6346-EC95-438F-A6E8-5DF831706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DA98-B09D-4588-AD60-3174D56FE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6649-95B4-4383-A5D0-9F50D5CD3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4AFF-657C-4338-A10C-DD9807C5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58CE-E0F1-4E1C-9010-0B9AF859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39D7-571D-480E-A3C5-5B680BD0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BA87-5109-4256-A331-7B04AA81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582A-6457-45D2-B6F2-74D1DB01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52F4-C7C4-4DB9-A597-C43E0323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3430-C006-454F-BFD0-7363842C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3216-6DFB-4386-A71E-4DB7DCDE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50D1-BE04-4618-81FC-36416060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6D7B-E97F-45C4-8930-98C4A6C8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A16D-1923-4540-84E3-9F30E3477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2AA3-785F-459B-9FB2-63797D409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BF2D-9269-4857-8D5C-B8AAD8DB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FAF0-7976-4859-9295-4B24A9EE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38F5-7C97-4066-AA75-C4246480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5244-7402-411C-98C6-F8B7F038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C99D-5569-4D4D-AA79-AFF9C76B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D20E-D668-4908-845C-A2E72C9C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E950-DBD8-4EF4-9F4B-5DE8EFF6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F5F9-6D37-419D-B96B-9207A2A55C0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1E00-5DF3-47FA-B63A-200915BFB8D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allgraf.net/uploads/posts/2009-05/1241827697_2-school-board.jpg" TargetMode="External"/><Relationship Id="rId3" Type="http://schemas.openxmlformats.org/officeDocument/2006/relationships/hyperlink" Target="http://files.vector-images.com/clipart/schoolsupplies_gk1.gif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56800" y="1000080"/>
            <a:ext cx="7000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71720" y="2714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.Павлов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лтай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643040" y="1600200"/>
            <a:ext cx="70437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allgraf.net/uploads/posts/2009-05/1241827697_2-school-board.jp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files.vector-images.com/clipart/schoolsupplies_gk1.gi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3" descr=""/>
          <p:cNvPicPr/>
          <p:nvPr/>
        </p:nvPicPr>
        <p:blipFill>
          <a:blip r:embed="rId4"/>
          <a:stretch/>
        </p:blipFill>
        <p:spPr>
          <a:xfrm>
            <a:off x="428760" y="1571760"/>
            <a:ext cx="12142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30T18:26:11Z</dcterms:created>
  <dc:creator>Comp</dc:creator>
  <dc:description/>
  <dc:language>en-US</dc:language>
  <cp:lastModifiedBy>Comp</cp:lastModifiedBy>
  <dcterms:modified xsi:type="dcterms:W3CDTF">2011-07-30T18:31:55Z</dcterms:modified>
  <cp:revision>3</cp:revision>
  <dc:subject/>
  <dc:title>Слайд 1</dc:title>
</cp:coreProperties>
</file>